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681-ABE9-411D-BA07-643DCD8A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3D6-6AC9-478A-862E-15D55FB4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DFA-8F48-49BD-89C5-BD19FE22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134-1488-4FBC-A1C3-E4548087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711-8FA5-4B6D-8AAA-EBDC7885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7DA-C62C-4AFE-853D-CAAFE7DE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1A0-DAA2-413C-B439-F693825B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371-098F-4EC4-A12C-B08B099F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E826-28DF-4CF9-B87B-DF1FC26F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CE0-5F25-4145-926F-BB283C58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088-3499-4418-9A94-B1068FF9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7309-07AA-4F78-A20A-4CC02B41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6BE5-C65D-47BB-96D0-67C3586DB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198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84240" y="1981080"/>
            <a:ext cx="228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023920"/>
            <a:ext cx="114300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49440" y="2862360"/>
            <a:ext cx="114300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581280"/>
            <a:ext cx="76212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2023920"/>
            <a:ext cx="114300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l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2819520"/>
            <a:ext cx="114300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l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2743200"/>
            <a:ext cx="76212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905120"/>
            <a:ext cx="76212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3678120"/>
            <a:ext cx="114300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1702800" y="2108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84240" y="2819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1733040" y="2946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84240" y="3657600"/>
            <a:ext cx="228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1733040" y="3784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286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2286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28195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365760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2286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124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800600" y="22860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1280" y="3668760"/>
            <a:ext cx="114300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l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11760" y="3941640"/>
            <a:ext cx="47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02040" y="2279520"/>
            <a:ext cx="479520" cy="16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800600" y="31237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6840" y="2155680"/>
            <a:ext cx="10666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6840" y="1752480"/>
            <a:ext cx="106668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400800" y="1980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2286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048120"/>
            <a:ext cx="10666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2644920"/>
            <a:ext cx="106668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400800" y="2873520"/>
            <a:ext cx="468360" cy="25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3124080"/>
            <a:ext cx="46836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3962520"/>
            <a:ext cx="10666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3559320"/>
            <a:ext cx="106668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51560" y="3787920"/>
            <a:ext cx="417600" cy="14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32480" y="3963960"/>
            <a:ext cx="43668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6:10:44Z</dcterms:created>
  <dc:creator>s</dc:creator>
  <dc:description/>
  <dc:language>en-US</dc:language>
  <cp:lastModifiedBy>OneTwoThree </cp:lastModifiedBy>
  <dcterms:modified xsi:type="dcterms:W3CDTF">2007-02-26T05:23:06Z</dcterms:modified>
  <cp:revision>6</cp:revision>
  <dc:subject/>
  <dc:title>Slide 1</dc:title>
</cp:coreProperties>
</file>